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AMERA.WAV" ContentType="audio/x-wav"/>
  <Override PartName="/ppt/media/image3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move the slid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057E-480C-4906-AC10-5F95830AD3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792-B73E-43B6-ADF7-B000BF50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851-4A20-489B-9584-92D5B943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982-3290-41BA-A896-18C5C57C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CAE-CD0F-4978-B54F-220D6F53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0BAE-8E9E-4135-94A7-8A263D3F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0C1C-ADEB-455B-A97A-A25D2E14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FDBD-BF7B-4146-86DC-503C2100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BE69-706B-4051-8D8A-AD1567A6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1B1B-2B20-4D2C-A9FE-B605E241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A500-E1BD-4631-900F-C6B0303B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1C86-BB52-405F-A89B-74939459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A347-CC2E-4F50-81BA-13B0B7F8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FEB3-31A6-40F6-A7E8-D14F04A9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8AF1-C0CB-4706-8D52-0DB89E39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299A-2986-436D-B105-F7409489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502C-1437-41EA-B460-DD253AEA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082F-5A27-4249-ADE3-17E4654A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93B-AB30-4A2C-AEF8-E550F77C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7DD7-4303-4D2D-A81F-508D5636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75B-8D18-48BB-8703-8A037A06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31F-EB34-4DB3-9380-3A4858CD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7E01-E224-444E-BA11-C4752105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B1D-CD57-455A-96BC-F189F6C4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82E-118B-43DE-B569-B433E6CC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A212-25EA-4925-B37C-222A74479DD9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530F-CAAE-4779-BB18-FB95E2DB589C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3"/>
          <p:cNvSpPr txBox="1"/>
          <p:nvPr/>
        </p:nvSpPr>
        <p:spPr>
          <a:xfrm>
            <a:off x="1447920" y="1371600"/>
            <a:ext cx="70866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ographic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dforms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0" y="58672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By: Mrs.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Sa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trai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body of water connecting two larger bodies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inkhole</a:t>
            </a: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	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circular depression formed when the roof of a cave collapse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Riv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tural flow of water that runs through the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Wetland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covered by shallow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Fore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densely wooded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Lak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inland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a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near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olcano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pening in the Earth’s crust where lava, ash, and gases erup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anyo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deep, narrow valley with steep wal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early flat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Gulf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part of the ocean that extends into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Hill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rounded, elevated area of land smaller than a mountai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un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hill of sand shaped by wi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ser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extremely dry area with little water and few plant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Oasi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in the desert with a water sour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teau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, flat, elevated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Glaci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area of slow-moving i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alle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ow land between hills or mountain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Mount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rugged land that generally rises higher than 2,000 fee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151af5"/>
                </a:solidFill>
                <a:latin typeface="Comic Sans MS"/>
              </a:rPr>
              <a:t>Study for your test !!!</a:t>
            </a:r>
            <a:endParaRPr b="1" lang="en-US" sz="55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Matching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ll-in-the-blank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178" name="Object 4" descr=""/>
          <p:cNvPicPr/>
          <p:nvPr/>
        </p:nvPicPr>
        <p:blipFill>
          <a:blip r:embed="rId1"/>
          <a:stretch/>
        </p:blipFill>
        <p:spPr>
          <a:xfrm>
            <a:off x="6324480" y="3048120"/>
            <a:ext cx="1776600" cy="3170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676520" y="419112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Stop, Drop everything, &amp; Study ton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Ocean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ral Reef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cean ridge made up of skeletal remains of tiny sea anima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eninsul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that sticks out into a lake or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Ba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art of a large body of water that is smaller than a gulf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thmu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piece of land connecting two larger land area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lt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where a river deposits soil into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land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surrounded entirely by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22:42:24Z</dcterms:created>
  <dc:creator>one1</dc:creator>
  <dc:description/>
  <dc:language>en-US</dc:language>
  <cp:lastModifiedBy>RomaK</cp:lastModifiedBy>
  <dcterms:modified xsi:type="dcterms:W3CDTF">2015-09-04T09:43:05Z</dcterms:modified>
  <cp:revision>9</cp:revision>
  <dc:subject/>
  <dc:title>No Slide Title</dc:title>
</cp:coreProperties>
</file>